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893-1283-451C-B550-1D7F16A9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54C-25CA-4E83-BFE7-C5E13D64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23D-AA81-4A9A-8B4E-6273C839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AF1E-31B3-4ABE-B08A-0A6A2A7D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A94-0BB7-46CB-B307-E6DC3CBA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307-BBE0-4597-9015-848CA88E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142-D368-4D94-A6B3-F245A524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F16-6AC5-45D9-A4D6-5BB29924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408-CA8C-4C2D-90CB-5B46AC77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0D2D-D01F-45BC-8680-EBC8A8E7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5C3-7246-4C65-8F18-2C06A709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088-8DB8-4BA3-9206-0E254AF6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99FD-AC52-40E7-8D29-B6567BABCC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hyperlink" Target="https://www.google.com.au/url?q=http://www.irishtimes.com/blogs/gallery/2011/10/27/vote-2011/&amp;sa=U&amp;ei=HYNxU_q8BpHm8AWEhIHwAQ&amp;ved=0CEYQ9QEwDA&amp;usg=AFQjCNE77hK47GrS29L7DPcpsfmXIQ5lyg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5"/>
          <p:cNvSpPr/>
          <p:nvPr/>
        </p:nvSpPr>
        <p:spPr>
          <a:xfrm>
            <a:off x="2852640" y="7635960"/>
            <a:ext cx="4248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ona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Online: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www.justgiving.com/phhexathl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Text (UK only):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ext PHEX66 and donation amount (£1, £2, £3, £4, £5 or £10) to 70070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9"/>
          <p:cNvSpPr/>
          <p:nvPr/>
        </p:nvSpPr>
        <p:spPr>
          <a:xfrm rot="20701800">
            <a:off x="1146240" y="5505480"/>
            <a:ext cx="1136520" cy="31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01520">
            <a:solidFill>
              <a:srgbClr val="ff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ff0000"/>
                </a:solidFill>
                <a:latin typeface="Calibri"/>
              </a:rPr>
              <a:t>27 Jul 201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ounded Rectangle 38"/>
          <p:cNvSpPr/>
          <p:nvPr/>
        </p:nvSpPr>
        <p:spPr>
          <a:xfrm rot="20701800">
            <a:off x="1434960" y="5936760"/>
            <a:ext cx="1135080" cy="31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01520">
            <a:solidFill>
              <a:srgbClr val="ff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ff0000"/>
                </a:solidFill>
                <a:latin typeface="Calibri"/>
              </a:rPr>
              <a:t>16 Aug 201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9"/>
          <p:cNvSpPr/>
          <p:nvPr/>
        </p:nvSpPr>
        <p:spPr>
          <a:xfrm rot="20701800">
            <a:off x="930240" y="6585120"/>
            <a:ext cx="1136520" cy="31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01520">
            <a:solidFill>
              <a:srgbClr val="ff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ff0000"/>
                </a:solidFill>
                <a:latin typeface="Calibri"/>
              </a:rPr>
              <a:t>21 Sep 201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9" descr="stamp-effects3"/>
          <p:cNvPicPr/>
          <p:nvPr/>
        </p:nvPicPr>
        <p:blipFill>
          <a:blip r:embed="rId1"/>
          <a:stretch/>
        </p:blipFill>
        <p:spPr>
          <a:xfrm>
            <a:off x="620640" y="4643280"/>
            <a:ext cx="2592360" cy="2665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620640" y="493236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3 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Melbourne Half Marath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Tough Mudder Sunshine Co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ydney Marath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1413000" y="104292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rry Stewart’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ulmonary Hypertension Hexath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573360" y="4932360"/>
            <a:ext cx="321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3 Voted for by Y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oll Open 30 May – 06 Jun 2014 facebook.com/phhexath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916280" y="4572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6 Ev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260280" y="5508720"/>
            <a:ext cx="360360" cy="287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13"/>
          <p:cNvSpPr/>
          <p:nvPr/>
        </p:nvSpPr>
        <p:spPr>
          <a:xfrm>
            <a:off x="189000" y="5435640"/>
            <a:ext cx="50328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15"/>
          <p:cNvSpPr/>
          <p:nvPr/>
        </p:nvSpPr>
        <p:spPr>
          <a:xfrm flipH="1">
            <a:off x="260280" y="5364000"/>
            <a:ext cx="43200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260280" y="6084720"/>
            <a:ext cx="360360" cy="2876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22"/>
          <p:cNvSpPr/>
          <p:nvPr/>
        </p:nvSpPr>
        <p:spPr>
          <a:xfrm>
            <a:off x="189000" y="6012000"/>
            <a:ext cx="50328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23"/>
          <p:cNvSpPr/>
          <p:nvPr/>
        </p:nvSpPr>
        <p:spPr>
          <a:xfrm flipH="1">
            <a:off x="260280" y="5940360"/>
            <a:ext cx="43200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260280" y="6659640"/>
            <a:ext cx="360360" cy="2887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25"/>
          <p:cNvSpPr/>
          <p:nvPr/>
        </p:nvSpPr>
        <p:spPr>
          <a:xfrm>
            <a:off x="189000" y="6588000"/>
            <a:ext cx="50328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26"/>
          <p:cNvSpPr/>
          <p:nvPr/>
        </p:nvSpPr>
        <p:spPr>
          <a:xfrm flipH="1">
            <a:off x="260280" y="6516720"/>
            <a:ext cx="43200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7"/>
          <p:cNvSpPr/>
          <p:nvPr/>
        </p:nvSpPr>
        <p:spPr>
          <a:xfrm>
            <a:off x="1125360" y="7032600"/>
            <a:ext cx="43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My Challenge is in YOUR Ha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VOTE. SHARE. GET INVOLVE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A2146BBB-E974-4B90-B21B-486341818DF5" descr="cid:A2146BBB-E974-4B90-B21B-486341818DF5"/>
          <p:cNvPicPr/>
          <p:nvPr/>
        </p:nvPicPr>
        <p:blipFill>
          <a:blip r:embed="rId2"/>
          <a:stretch/>
        </p:blipFill>
        <p:spPr>
          <a:xfrm>
            <a:off x="4941720" y="324000"/>
            <a:ext cx="1670040" cy="1355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60280" y="8459640"/>
            <a:ext cx="316080" cy="29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4"/>
          <a:stretch/>
        </p:blipFill>
        <p:spPr>
          <a:xfrm>
            <a:off x="260280" y="8028000"/>
            <a:ext cx="290520" cy="28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5"/>
          <a:stretch/>
        </p:blipFill>
        <p:spPr>
          <a:xfrm>
            <a:off x="3573360" y="5796000"/>
            <a:ext cx="316080" cy="290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32"/>
          <p:cNvSpPr/>
          <p:nvPr/>
        </p:nvSpPr>
        <p:spPr>
          <a:xfrm>
            <a:off x="549360" y="7956720"/>
            <a:ext cx="19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@PHHexathl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3"/>
          <p:cNvSpPr/>
          <p:nvPr/>
        </p:nvSpPr>
        <p:spPr>
          <a:xfrm>
            <a:off x="549360" y="8440560"/>
            <a:ext cx="30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facebook.com/phhexathlo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4"/>
          <p:cNvSpPr/>
          <p:nvPr/>
        </p:nvSpPr>
        <p:spPr>
          <a:xfrm>
            <a:off x="260280" y="7596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llow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7" descr="https://encrypted-tbn3.gstatic.com/images?q=tbn:ANd9GcRsHtEVFPbsxTGpNz-R6vZtFfYBymqIQLnY_5dh_M7TZ2vF57TsjpZzp3d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68280" y="1979640"/>
            <a:ext cx="4248360" cy="2305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41"/>
          <p:cNvSpPr/>
          <p:nvPr/>
        </p:nvSpPr>
        <p:spPr>
          <a:xfrm>
            <a:off x="-1971720" y="104292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alibri"/>
              </a:rPr>
              <a:t>I would like the title to be impactful and formatted, not just letters with a font appli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2"/>
          <p:cNvSpPr/>
          <p:nvPr/>
        </p:nvSpPr>
        <p:spPr>
          <a:xfrm>
            <a:off x="-2043000" y="2340000"/>
            <a:ext cx="287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alibri"/>
              </a:rPr>
              <a:t>Whilst I wouldn’t want a rigid picture entered (like this) I like the idea of incorporating a ballet paper design, with at least some of the activities listed, with a silhouette of the activity (e.g. bungy jumping, famine et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3"/>
          <p:cNvSpPr/>
          <p:nvPr/>
        </p:nvSpPr>
        <p:spPr>
          <a:xfrm>
            <a:off x="5084640" y="680400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alibri"/>
              </a:rPr>
              <a:t>This subtitle is probably the most important. I want people of get the interactive nature of the event. This has to have impac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7"/>
          <p:cNvSpPr/>
          <p:nvPr/>
        </p:nvSpPr>
        <p:spPr>
          <a:xfrm>
            <a:off x="7101000" y="7956720"/>
            <a:ext cx="28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alibri"/>
              </a:rPr>
              <a:t>The donation information is important and should be prominen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48"/>
          <p:cNvSpPr/>
          <p:nvPr/>
        </p:nvSpPr>
        <p:spPr>
          <a:xfrm>
            <a:off x="-2727360" y="796464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alibri"/>
              </a:rPr>
              <a:t>The ‘Follow’ section does not need to take up a lot of ro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9"/>
          <p:cNvSpPr/>
          <p:nvPr/>
        </p:nvSpPr>
        <p:spPr>
          <a:xfrm>
            <a:off x="6597720" y="53964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alibri"/>
              </a:rPr>
              <a:t>I would prefer the PHA logo to be at the bottom right hand corner, if space permits. Not a deal breaker thoug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50"/>
          <p:cNvSpPr/>
          <p:nvPr/>
        </p:nvSpPr>
        <p:spPr>
          <a:xfrm>
            <a:off x="-3095640" y="565164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alibri"/>
              </a:rPr>
              <a:t>I like the idea of ballot box crosses to ethicise and date stamps to create a sty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03:39:16Z</dcterms:created>
  <dc:creator>AMCOR</dc:creator>
  <dc:description/>
  <dc:language>en-US</dc:language>
  <cp:lastModifiedBy>AMCOR</cp:lastModifiedBy>
  <dcterms:modified xsi:type="dcterms:W3CDTF">2014-05-13T05:55:36Z</dcterms:modified>
  <cp:revision>1</cp:revision>
  <dc:subject/>
  <dc:title>Slide 1</dc:title>
</cp:coreProperties>
</file>